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62D-506F-4370-A60C-E1C92E1C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AF0-50FD-4E1C-9777-88EE7CE0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CBB8-896A-4AFF-A25B-717A4977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D29D4-4CD8-474D-A510-B6CB6B74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2E1FE-62C1-4609-9644-875F9906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DF2E9-DEB5-428C-B303-E87E820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79CA4-E1AA-49C3-A6BF-33AA515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89892-C173-4C50-B98A-7C1CD25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4EE19-C13F-4317-B044-ABE33F04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E228D-3AF8-4031-AEA1-377F2645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87564-393A-4CCE-95CB-BA53FD89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EDF99-9E58-47DE-86A2-27BAED60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EDD-8D3C-4AFF-8E99-6280F81D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AB0C1-04C2-4828-B20F-F4E56E8E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38D1-71AB-4A1B-B7D0-187FBA8E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8C3F0-B9C7-46AE-9E50-4C4777E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910D4-69EB-4D9C-A623-A96D5BFF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A3321-C61A-4815-8C16-89627F4C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2478A-AEBC-493C-BCCD-0ADDD60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3396-4214-49BB-B890-D8C28EB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D2658-CAAA-40A2-9A54-EF4C84A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393D-094C-4B7C-A31C-E2FA28FB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91E20-4616-43BB-8A72-021904D7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2A3-14C8-41D8-BCB0-EFC15150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D90A5-CABC-4F90-A01A-BBC05DEB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BCD00-A612-4726-804C-3BA85620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1C471-D19F-4F66-BF29-F8A4B30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E770-1709-4663-BA7A-8E8169A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B1DA-59E2-47E2-88B6-6F495019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AD00-1183-4DC7-8D1F-5DA1A5F5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7C4C-5AFD-4761-A02C-B350F80D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9E18-B52F-48DF-B9EA-6E558FEE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C063-7E9B-4A80-9D36-AC696A9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952D-B48A-4197-914E-22E98A3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38C9-20D4-4B93-A617-D5B62513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F363F-977A-4E06-B3A5-8A701937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F5C2B-53DC-4449-BA8C-CF6FCFC4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DFCB-DDC5-41B4-8E46-02B8D83E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74126-32FE-4915-AF6D-8566BE5E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6BCD4-F660-4DB4-8677-6773871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3B9EB-99C1-468D-8F0C-CEC0B76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0E970-8FEE-4278-B362-153E5B76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5BCEA-5FC0-45FB-80A1-69B2F46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65360-3D06-431E-A545-30A602A0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BB421-BB16-4865-A2F9-AFB8217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4244-7952-4386-93BB-8C20488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3DA5-5E06-455E-9D08-94E5387C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8326C-88E8-465E-93FC-6857F69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6A2E2-9EB7-4D9D-B7DC-84F8F2AD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4444D-B22F-4FF6-9336-CAAACBB3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D2DE7-0A42-4ED7-B27C-A8CE010B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89A60-7FF0-4CB5-B156-7F77CD1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CC3D9-DF36-478B-8D62-8107B26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05CD7-2216-4119-82FB-CE3610B5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4AC59-DFCF-4C9E-BC21-F41A40D2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7B3F3-77F5-415B-AB7A-3301A43D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741C-2EAD-4D5F-A454-328078AA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A936B-62CB-4BFB-8F93-EDE5FB53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0BA0E-42A5-4411-80A2-475BA99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A2B22-603D-46CB-BFEE-301D283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48F46-8756-443D-980D-6AE0CA7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9FD85-6506-4542-8AED-B29F0707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41041-1F08-4D00-9C82-528B7666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9767A-E7E7-401D-B794-17237930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EA546-DD8D-4CAE-9663-9B699D2B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E90B5-E621-432D-B3B3-9719AB65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1653A-6610-4077-8804-221716F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19E-F99D-4B35-956A-FBCB1FCB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1520C-F700-4CF8-865F-289D644E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AC669-0DAB-4CB3-B832-7BD0474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E8E6E-CD8B-44D1-A96C-848785E8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25087-D420-44CA-A0B5-AE73D0EC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3DC14-222A-4D0D-9474-B579378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F8314-1F9E-4680-A636-DB43BBD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74293-0404-4355-BDBE-2A1F9C9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30533-0E97-490E-9F9F-AFC75567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6819D-083A-4B06-B95D-984890DE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A1D84-ABEA-42CC-9E5B-773FBA0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84A-3D70-45BB-85D7-644CC76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D1CD8-EE90-49DB-BE3C-C60EEBC9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70C25-4375-4ACB-B2CA-B9A1619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CF75A-4A62-4D29-98D3-B7ED9AD6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B13CA-4645-413C-A336-9F00789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2BAB6-67B2-43F6-AB4C-FA490C6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E3D0A-3282-41AD-87FE-DD7A25F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A1C26-E0A7-4B18-8E93-6C22BA6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C74D6-BECA-4392-905D-9ED3451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A73FF-5DF1-4E15-91FA-7E4CFDC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8F0BE-7582-4C67-B237-361FCC8B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8252-F0E9-4D74-9997-E6D84CF0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BBF02-F423-4E4E-ABA9-A2FF927C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24AFA-CDC9-41F4-825F-3BCBEDC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3CF11-3373-4B45-B1FF-994084E4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0553F-841D-4943-81A2-4B70B218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DBD15-DDB2-4DC2-9D96-4B8BAD7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F45BD-FF64-4D20-BF3E-D9868C2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E3230-37D3-427E-BB31-9A6C823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607E1-3676-48CD-A21F-6A4CA6B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E6744-A124-466E-9EBE-BA9AD17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B236A-3A1A-4651-BE61-19DF7A6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CF60-8253-4CA9-BA66-3871E79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6F7D2-3837-4E9D-B9BA-87A26B05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B8B04-2CE1-4D7F-B67B-127C2B94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189D9-850E-408B-AA4C-1C368324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3D2BE-61B2-4C58-94B3-7A729ACB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B82D2-1382-496A-A9A0-D5574269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EEA41-CEA2-403E-8785-AA2C1A0F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0B952-74FB-4D1E-8CA1-C3C4C18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63A89-D5AD-479A-BB18-9B7119F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204DC-EC9A-4394-A241-8ABC06F4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4D8F5-E407-4C3B-BB7A-FD3B035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EBA-B3EE-4993-871B-65808CE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3A87-FFEB-4184-8B93-FF261F9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CCE9E-92F7-43F8-8029-7B53C3F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AF3E7-1BEE-4A5B-873A-2A95F7E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CC175-BCAD-41ED-B75C-E744E773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63019-1D02-4E77-BA75-AE1ADEAE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D3E56-ECFE-4080-AF62-D6586E87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7A58B-6ED2-4D3F-9547-5CF73B05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58BC0-C87B-4947-B8EF-18A9E16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FE654-2EB1-4631-A8AA-2B5B931B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0A07C-B86C-4514-A72C-082EB5F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69713-24D4-4867-AE3A-0870BDF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B640-3299-4FFA-90EF-DC7BDED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78E9E-9F0D-4888-A3FD-22BC49F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9B8315-F27A-4089-B263-9DAFEBF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65015-EF9B-453B-A7C5-E2149F0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E8959-4AEC-46E1-9172-AA0942EF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E507C-6F7F-4DDF-B5B0-FD8AD326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58185-77A9-4910-ABF7-70823992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BC9F1-3B59-4B2E-B80E-FA534C46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D0D72-8B17-4C0B-BE4B-70A49E84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134CD-BB4A-4073-B210-BF2BAC90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1EC85-F09A-4C11-9E1C-D2EDC38E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E8B7-9C32-4246-9087-92392458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5FC6F-1E8D-4A22-8771-FCF395A0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21932-21C3-496D-9E25-99333FDD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0C1F9-1692-44CD-BFEF-32372D3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26DA1-43E6-4B3A-AD3F-C9F840A2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A7DFF-298A-4DA2-9C5D-721D74C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59CD1-1F33-45DC-9797-7D55549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F5ADF-217D-44ED-ADF5-E367454D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6B469-195A-4F54-BC19-B140F432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06E60-A848-469C-A86B-D6432D4F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7E8CF-1A1D-48BF-A354-0C1F197F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92FE-B178-4223-8C7A-9E545148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F8F4E-D21E-4B65-A010-EA369B38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7BEB3-C2CF-4E45-BA9C-03BCF016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EB97E-FB03-407C-9111-F8E1D79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B74A8-D6A3-43DE-A481-0227F87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8179E-DD6D-4011-950C-496D2C4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440CA-C5C2-47A5-BB48-39E2DF9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538100-EF6A-470F-9481-ACA3149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D0101-3E52-4BC6-B544-47102CA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2DE3C-EA53-444E-BF89-28A1BCA7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B7629-6E8C-4253-BE50-608DC6EF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182-9119-4AD0-B425-7ACE20A2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E6D49-77DF-4342-8FCE-54413BD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8A8AD-88C7-4AD3-A3BE-1E7F19DB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2D87A-BA9C-45BC-B11A-0A2A6C98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DFD68-336C-44E5-AC1F-C74000B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D0162-7113-4D33-A9B0-738DFF9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47A0F-3602-47FD-A482-11C2682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FF542-DC7D-47C2-8C47-D6F8741A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4BE92-DB57-4816-9B8D-14C4569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97673-E161-40BB-9AEE-3BB6E8E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B1FD8-947C-4487-BC6D-0B435FD0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32C5-24E8-4638-BE4B-D852CA5C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80819-F7AF-421E-8787-942A0D8C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C0370-5C52-4813-AA18-53E3A0DA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2F2B4-F3D1-4AFF-8115-E2253A0E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2FC9-363F-4E46-B6BF-18E02E4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BA40-83AC-4BE0-AA0A-180C57B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258B-C12E-403E-ACEB-42EA8C34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CA6D-A721-4BC2-9CC6-42856286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EC4-AE8F-4C99-BA32-A0484A4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D142-E1D2-47B0-8F4E-AFE1ED78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351B-DA65-4D54-B466-0F0691B7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9D55-5C50-4128-9C50-280EABA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7703-3F2D-464E-9DBB-E41D3A25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AF82-AB75-491D-B9BE-FA3CA59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2D69-A9E0-46E4-8EFB-0E025794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FB167-80AC-4677-B7AE-D97BE806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3C4B-928A-40E8-B815-F69396D5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30A3-407F-4F39-BD5B-34FACCE0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E278-668F-4847-99CA-5EA527DA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4E0-6FA2-4526-804E-E170B7E6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4334-C777-4F5F-841A-17BD3984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C4EC5-C40A-4308-A968-B43A192C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64EC-6B72-430B-A742-90FFCB1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6068-9DD8-4D0D-9B13-47443ED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B17F-B45E-47DB-9617-B1037F5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67E0-1251-46FE-98EC-30CB9FC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F770-D3FB-4AFA-9F23-F5B21F9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3F5D-42CB-45E6-9C98-8E06CFE5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97CD-F997-4C38-8E3B-EBB6B4A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87FA-3B6A-4576-A1C0-BB4A848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99D-514A-4B88-8AC6-A8AF90CA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CE91-C9EF-472C-83F3-6EE0B995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6B64-8891-451F-B96B-0C672D9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20840-017A-4080-A073-5BBB92A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2857-F2D4-49F6-9A51-34807F46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37ED7-4272-4F68-814A-39CC2DC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B280-35F3-4AB9-AD06-53D1B90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C697-F2B4-4690-B9FF-F2C3FB0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6A1F-AA8C-430E-96E7-5B1B9A6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88E35-DA21-4428-8ECC-BC2080C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01CB2-08B2-4CCD-A4FA-F01F775C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91B-EE26-47F9-8EDE-BDDE60A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B003D-021F-42DB-B6C7-A4219E08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9A72-BCEF-44FD-92CE-E1CDC370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0555-44E9-4E4C-A6CE-FCAF7BA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F14D2-4F72-4024-BEFD-BFB2839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C6C9-1B33-4FEB-A908-F9902ABB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40883-3ADC-4FC4-92DA-AC825B9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754C-CF51-48EC-AAE8-F038378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916E-983F-4C6D-9B65-936AC67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C115-F142-4F13-A558-9F94B2E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821F-11C4-408E-A715-160D44C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CD6-6ABD-4C53-BD1C-43FBC47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CDFC-6571-4CA5-BCB4-B38E535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A30C0-D0EF-4A77-BA4E-6F59A2F1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3AD6-E5BF-441B-AE25-96FC5BE1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84B3-FAD9-48B7-91BE-8DA86FFE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97E0-F9A4-42E3-B4DA-0AE9786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5DFE-8B72-448E-8764-AC9D69C6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046D-6C70-40F6-A563-DEAAAC8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178D-F171-4C15-BA9C-8F072CD2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F3C05-7363-4D87-ABCF-76946C11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C300-1C43-47CE-97EB-CDE02ED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A0-9D26-474C-B275-1C98125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24F5-E7AB-47D2-9134-03DECC0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DF38-3E76-4FCD-A668-DA89159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9216C-A895-4D84-889E-578BB23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A4B1-FAE2-4153-A734-7BF8C9B8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E1DB6-02B7-4DF4-8795-1146A054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E270-5B56-439E-9A9E-25C25485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65B00-C456-4082-ADC1-02637A0B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8525-793C-4EAC-AC26-34CFA0D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A436-CF93-412C-8998-30F22C0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EE8F-1D11-408A-A6F6-88E760F8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D00-AB30-4ADE-955F-1B64CBF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53D1-68EB-419E-8DFF-CDA32433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34596-55F1-463A-A66D-66AF471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81D2B-6EB8-4621-9985-F5465F1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D97D-598A-4353-B986-5ADCEBB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A1ED-C6C7-4512-96D8-04624D27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F70EB-8654-4452-B793-A02A62F0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F3F2-DCBB-4F66-9323-B68CD83E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7575E-867C-4D2D-95B1-8B9CF983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E6A8-EE71-4953-9EEB-A8CE435B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30F94-CBEF-4221-AF4D-36C5B0AA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4426-86D0-41B2-922E-70CB13F4E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8CF-946C-4668-B851-5CECF1243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4E5-0B19-4084-9981-DEBB08A8B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ED3-6C3D-4B1F-BA7E-0F6085EE0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F250-6AEF-4D63-BFF2-21E7D914D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A26-2CEA-4D65-8FB4-236480F4F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E8D-B98F-48D1-86B3-F1E314AA92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F515-F84E-49B3-930E-EF7A39EB6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90C5-CD4A-425C-8F7C-FD8C129DE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AA24-3427-4BB5-AC0A-8C70265F4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F379-1579-40D8-910D-7DFC0FC72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98FF-9F9C-46E5-910E-B9DCD1A8C0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0E1B-E8A6-4577-8FC1-9775D8666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272F-DAD0-44D7-BE15-2E003E2E45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2068-466C-42C5-8FF6-1FF279A97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8C3-E80F-4554-BF18-6A27B9665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942-768E-4E6E-8E7A-69F380822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DBE1-3635-4C66-9BFC-0357E48118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838-A9AC-46E2-97F8-04C35AADF9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620-15F8-4EF9-AD60-143888CCF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E09-D824-456E-BBAA-99D73653A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05A8-EEC6-4B0D-A252-AD349948F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9449-0EAC-4CE1-9C0B-C7F0B8278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F56B-1D21-4F3B-B3F6-33AA3321E6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E6CF-134A-4848-9FDC-0B729BA2B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6245-1981-4FFE-8369-FAFD3BA874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2DF-5A3F-4E9A-9948-571FF3D58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D8F-1AB4-46BB-B9C6-26BD7D76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920-B164-4440-8B11-00720EF98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77F-4100-4CB7-9C68-FDD09CD58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0B49-D61D-4297-B5B8-8F696C313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084-9F9D-429D-9070-502469831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AAF-E9CC-4DA9-8D69-1CF32F2B75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F1A-46C1-41A4-9717-5AC1DF7B0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C65-4348-43E3-B116-6655A8060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B41-8CC1-4B01-95E2-29CCC3638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580-145E-4F96-BD11-2961D0754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913D-E7EE-4AA4-B92D-050AEDECA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584C-6F77-4A17-A141-259D13852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9D2-66CB-4FD4-B1AA-760BBD42D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76480" y="2952720"/>
            <a:ext cx="4991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14440" y="890640"/>
            <a:ext cx="8115120" cy="507672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3214800" y="2428920"/>
            <a:ext cx="893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3786120" y="292896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3357720" y="3429000"/>
            <a:ext cx="171432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7226280" y="3921120"/>
            <a:ext cx="1214280" cy="376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0"/>
          <p:cNvSpPr/>
          <p:nvPr/>
        </p:nvSpPr>
        <p:spPr>
          <a:xfrm>
            <a:off x="7215120" y="4429080"/>
            <a:ext cx="150012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1"/>
          <p:cNvSpPr/>
          <p:nvPr/>
        </p:nvSpPr>
        <p:spPr>
          <a:xfrm>
            <a:off x="357120" y="4929120"/>
            <a:ext cx="78588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2"/>
          <p:cNvSpPr/>
          <p:nvPr/>
        </p:nvSpPr>
        <p:spPr>
          <a:xfrm>
            <a:off x="6572160" y="4929120"/>
            <a:ext cx="192888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76280" y="1461960"/>
            <a:ext cx="8191440" cy="393408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1143000" y="1428840"/>
            <a:ext cx="192888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3429000" y="2428920"/>
            <a:ext cx="121428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6678720" y="2943360"/>
            <a:ext cx="100008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2643120" y="4000680"/>
            <a:ext cx="78588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5360" y="928800"/>
            <a:ext cx="8153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52520" y="1119240"/>
            <a:ext cx="82389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642960" y="1666800"/>
            <a:ext cx="7858080" cy="35244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1571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2571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143000" y="3179880"/>
            <a:ext cx="45072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3714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4643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1438200"/>
            <a:ext cx="8143920" cy="39816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928800" y="1428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00080" y="24289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928800" y="34290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928800" y="4000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857160" y="450072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47840" y="847800"/>
            <a:ext cx="82483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296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09680" y="685800"/>
            <a:ext cx="8324640" cy="548640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7608960" y="2522520"/>
            <a:ext cx="895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2565360" y="3000240"/>
            <a:ext cx="8953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5214960" y="4143240"/>
            <a:ext cx="2714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76280" y="2290680"/>
            <a:ext cx="8191440" cy="227664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143000" y="3143160"/>
            <a:ext cx="9288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5357880" y="2414520"/>
            <a:ext cx="285732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3321000" y="3963960"/>
            <a:ext cx="16430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0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